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tif" ContentType="image/tiff"/>
  <Override PartName="/ppt/media/image3.tif" ContentType="image/tiff"/>
  <Override PartName="/ppt/media/image12.png" ContentType="image/png"/>
  <Override PartName="/ppt/media/image4.wmf" ContentType="image/x-wmf"/>
  <Override PartName="/ppt/media/image5.png" ContentType="image/png"/>
  <Override PartName="/ppt/media/image6.tif" ContentType="image/tiff"/>
  <Override PartName="/ppt/media/image11.tif" ContentType="image/tiff"/>
  <Override PartName="/ppt/media/image7.tif" ContentType="image/tiff"/>
  <Override PartName="/ppt/media/image8.tif" ContentType="image/tiff"/>
  <Override PartName="/ppt/media/chimes.wav" ContentType="audio/x-wav"/>
  <Override PartName="/ppt/media/image9.png" ContentType="image/png"/>
  <Override PartName="/ppt/media/image10.tif" ContentType="image/tif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265-9DA8-4110-8222-988E3F4F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1EE-E20A-47D1-BB1B-3B1399C5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811-D398-4DF3-99D9-5DF6E9EF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D4E-6E60-47AF-8241-C09922E5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68B-462E-44D7-ADE6-A5195E5D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419-05F0-4737-B0CC-C2357CC3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6D6-99D1-45FF-A747-19CA8BBA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EFC-9BAC-48BA-BAFB-69376555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556-C802-4E5B-8723-04545D5B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0A1-EB1B-4586-90CD-5C6EEB8B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416-AC7C-4447-B272-C50E5C8A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622-6944-4B3C-94B0-69B96F21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28AD-0D92-41D2-B2B6-0FDD2F25C460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81C0-E944-4C02-8127-FD4F5543B42D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t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t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t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tif"/><Relationship Id="rId2" Type="http://schemas.openxmlformats.org/officeDocument/2006/relationships/image" Target="../media/image11.t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t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t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-1440" y="1743120"/>
            <a:ext cx="9146880" cy="2039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93640" y="181764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400" spc="-1" strike="noStrike" u="sng">
                <a:solidFill>
                  <a:srgbClr val="000000"/>
                </a:solidFill>
                <a:uFillTx/>
                <a:latin typeface="Franklin Gothic Medium"/>
              </a:rPr>
              <a:t>本章复习和总结</a:t>
            </a:r>
            <a:endParaRPr b="0" lang="en-US" sz="3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22400"/>
            <a:ext cx="64008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八年级下册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3"/>
          <p:cNvSpPr/>
          <p:nvPr/>
        </p:nvSpPr>
        <p:spPr>
          <a:xfrm>
            <a:off x="247680" y="130320"/>
            <a:ext cx="12114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例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"/>
          <p:cNvSpPr/>
          <p:nvPr/>
        </p:nvSpPr>
        <p:spPr>
          <a:xfrm>
            <a:off x="504720" y="758880"/>
            <a:ext cx="813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所示，将一个装有一定质量水（水未装满）的圆台状封闭容器，放在水平桌面上．如果将其改为倒立放置，则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水对容器底的压强减小，容器对桌面的压强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水对容器底的压强减小，容器对桌面的压强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水对容器底的压强增大，容器对桌面的压强增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水对容器底的压强增大，容器对桌面的压强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4" descr="wlja31-"/>
          <p:cNvPicPr/>
          <p:nvPr/>
        </p:nvPicPr>
        <p:blipFill>
          <a:blip r:embed="rId1"/>
          <a:stretch/>
        </p:blipFill>
        <p:spPr>
          <a:xfrm>
            <a:off x="7442280" y="3889440"/>
            <a:ext cx="1008000" cy="10173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5"/>
          <p:cNvSpPr/>
          <p:nvPr/>
        </p:nvSpPr>
        <p:spPr>
          <a:xfrm>
            <a:off x="3163680" y="1598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8"/>
          <p:cNvSpPr/>
          <p:nvPr/>
        </p:nvSpPr>
        <p:spPr>
          <a:xfrm>
            <a:off x="1525680" y="2943360"/>
            <a:ext cx="1287360" cy="414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9"/>
          <p:cNvSpPr/>
          <p:nvPr/>
        </p:nvSpPr>
        <p:spPr>
          <a:xfrm>
            <a:off x="5484960" y="2943360"/>
            <a:ext cx="1287360" cy="414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标注 10"/>
          <p:cNvSpPr/>
          <p:nvPr/>
        </p:nvSpPr>
        <p:spPr>
          <a:xfrm>
            <a:off x="955800" y="3735360"/>
            <a:ext cx="4641840" cy="1284480"/>
          </a:xfrm>
          <a:prstGeom prst="wedgeRoundRectCallout">
            <a:avLst>
              <a:gd name="adj1" fmla="val -24032"/>
              <a:gd name="adj2" fmla="val -87250"/>
              <a:gd name="adj3" fmla="val 16667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倒置后，由于水的体积一定，横截面积变小，则水的深度</a:t>
            </a:r>
            <a:r>
              <a:rPr b="1" i="1" lang="zh-CN" sz="2400" spc="-1" strike="noStrike">
                <a:solidFill>
                  <a:srgbClr val="ffffff"/>
                </a:solidFill>
                <a:latin typeface="Franklin Gothic Medium"/>
                <a:ea typeface="楷体_GB2312"/>
              </a:rPr>
              <a:t>h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变大，根据 </a:t>
            </a:r>
            <a:r>
              <a:rPr b="1" i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=</a:t>
            </a:r>
            <a:r>
              <a:rPr b="1" i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ρ</a:t>
            </a:r>
            <a:r>
              <a:rPr b="1" i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gh </a:t>
            </a:r>
            <a:r>
              <a:rPr b="1" lang="zh-CN" sz="2400" spc="-1" strike="noStrike">
                <a:solidFill>
                  <a:srgbClr val="ffffff"/>
                </a:solidFill>
                <a:latin typeface="Franklin Gothic Medium"/>
                <a:ea typeface="楷体_GB2312"/>
              </a:rPr>
              <a:t>判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标注 11"/>
          <p:cNvSpPr/>
          <p:nvPr/>
        </p:nvSpPr>
        <p:spPr>
          <a:xfrm>
            <a:off x="2792520" y="1152360"/>
            <a:ext cx="4640040" cy="1679760"/>
          </a:xfrm>
          <a:prstGeom prst="wedgeRoundRectCallout">
            <a:avLst>
              <a:gd name="adj1" fmla="val 22527"/>
              <a:gd name="adj2" fmla="val 67435"/>
              <a:gd name="adj3" fmla="val 16667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容器放在水平桌面上，对桌面的压力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F=G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倒置后容器对桌面的压力不变，而与桌面的接触面积减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由公式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=F/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判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3"/>
          <p:cNvSpPr/>
          <p:nvPr/>
        </p:nvSpPr>
        <p:spPr>
          <a:xfrm>
            <a:off x="247680" y="506520"/>
            <a:ext cx="12114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例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"/>
          <p:cNvSpPr/>
          <p:nvPr/>
        </p:nvSpPr>
        <p:spPr>
          <a:xfrm>
            <a:off x="519120" y="1144440"/>
            <a:ext cx="810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一个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底面积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.02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容器里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8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水，容器中水的深度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.06m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把它放在水平桌面上，如图所示（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10N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水对容器底部的压强和压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容器对桌面的压力和压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2" descr="wlja32"/>
          <p:cNvPicPr/>
          <p:nvPr/>
        </p:nvPicPr>
        <p:blipFill>
          <a:blip r:embed="rId1"/>
          <a:stretch/>
        </p:blipFill>
        <p:spPr>
          <a:xfrm>
            <a:off x="6004080" y="2719440"/>
            <a:ext cx="24969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10"/>
          <p:cNvSpPr/>
          <p:nvPr/>
        </p:nvSpPr>
        <p:spPr>
          <a:xfrm>
            <a:off x="1241280" y="200160"/>
            <a:ext cx="7392960" cy="49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水对容器底的压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=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水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.0×1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kg/m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10N/kg×0.06m=600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水对容器底的压力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p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600Pa×0.02m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2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容器对桌面的压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容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8N+4N=22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容器对桌面的压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2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02m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100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3"/>
          <p:cNvSpPr/>
          <p:nvPr/>
        </p:nvSpPr>
        <p:spPr>
          <a:xfrm>
            <a:off x="247680" y="506520"/>
            <a:ext cx="12114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例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"/>
          <p:cNvSpPr/>
          <p:nvPr/>
        </p:nvSpPr>
        <p:spPr>
          <a:xfrm>
            <a:off x="379440" y="1201680"/>
            <a:ext cx="841536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两只相同的烧杯，分别盛有体积相同的水和酒精，但没有标签，小李采用闻气味的方法判断出无气味的是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唐则采用压强计进行探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若压强计的气密性很差，用手指不论轻压还是重压橡皮膜时，发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形管两边液柱的高度差变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选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唐把调节好的压强计放在空气中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形管两边的液面应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"/>
          <p:cNvSpPr/>
          <p:nvPr/>
        </p:nvSpPr>
        <p:spPr>
          <a:xfrm>
            <a:off x="605160" y="3557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"/>
          <p:cNvSpPr/>
          <p:nvPr/>
        </p:nvSpPr>
        <p:spPr>
          <a:xfrm>
            <a:off x="6975360" y="40194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533520" y="703440"/>
            <a:ext cx="802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小唐把金属盒分别浸入到两种液体中，发现图甲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形管两边的液柱高度差较小，认为图甲烧杯中盛的是酒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他的结论是不可靠的，因为没有控制金属盒在液体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相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2" descr="CK25"/>
          <p:cNvPicPr/>
          <p:nvPr/>
        </p:nvPicPr>
        <p:blipFill>
          <a:blip r:embed="rId1"/>
          <a:stretch/>
        </p:blipFill>
        <p:spPr>
          <a:xfrm>
            <a:off x="2562120" y="3021120"/>
            <a:ext cx="3983040" cy="180180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3"/>
          <p:cNvSpPr/>
          <p:nvPr/>
        </p:nvSpPr>
        <p:spPr>
          <a:xfrm>
            <a:off x="4290840" y="2274840"/>
            <a:ext cx="10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深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3"/>
          <p:cNvSpPr/>
          <p:nvPr/>
        </p:nvSpPr>
        <p:spPr>
          <a:xfrm>
            <a:off x="630360" y="679320"/>
            <a:ext cx="788328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小唐发现在同种液体中，金属盒离液面的距离越深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形管两边液柱的高度差就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表示液体的压强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小唐还发现在同种液体中，金属盒离液面的距离相同时，只改变金属盒的方向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形管两边液柱的高度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选填“不变”或“变化”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表明在相同条件下，液体内部向各个方向的压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6"/>
          <p:cNvSpPr/>
          <p:nvPr/>
        </p:nvSpPr>
        <p:spPr>
          <a:xfrm>
            <a:off x="6918120" y="1149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7"/>
          <p:cNvSpPr/>
          <p:nvPr/>
        </p:nvSpPr>
        <p:spPr>
          <a:xfrm>
            <a:off x="3470040" y="1620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8"/>
          <p:cNvSpPr/>
          <p:nvPr/>
        </p:nvSpPr>
        <p:spPr>
          <a:xfrm>
            <a:off x="3008160" y="303372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9"/>
          <p:cNvSpPr/>
          <p:nvPr/>
        </p:nvSpPr>
        <p:spPr>
          <a:xfrm>
            <a:off x="1979640" y="396720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4"/>
          <p:cNvSpPr/>
          <p:nvPr/>
        </p:nvSpPr>
        <p:spPr>
          <a:xfrm>
            <a:off x="2013120" y="399960"/>
            <a:ext cx="23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大气压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298440" y="366840"/>
            <a:ext cx="1727280" cy="5767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知识点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865080" y="1117440"/>
            <a:ext cx="7413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大气压是大气产生的压强，标准大气压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60m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高水银柱产生的压强，其大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0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.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粗略计算可取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Pa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2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大气压可用水银气压计或无液气压计来测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大气压随高度的升高而降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海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以内，大约每升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大气压减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0Pa.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2"/>
          <p:cNvSpPr/>
          <p:nvPr/>
        </p:nvSpPr>
        <p:spPr>
          <a:xfrm>
            <a:off x="787320" y="1092240"/>
            <a:ext cx="7653240" cy="3246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3"/>
          <p:cNvSpPr/>
          <p:nvPr/>
        </p:nvSpPr>
        <p:spPr>
          <a:xfrm>
            <a:off x="247680" y="506520"/>
            <a:ext cx="12114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例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1138320" y="1300320"/>
            <a:ext cx="7010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所示，下列实验不能说明大气压存在的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2" descr="wlja33"/>
          <p:cNvPicPr/>
          <p:nvPr/>
        </p:nvPicPr>
        <p:blipFill>
          <a:blip r:embed="rId1"/>
          <a:stretch/>
        </p:blipFill>
        <p:spPr>
          <a:xfrm>
            <a:off x="1384200" y="2411280"/>
            <a:ext cx="6456600" cy="168444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4"/>
          <p:cNvSpPr/>
          <p:nvPr/>
        </p:nvSpPr>
        <p:spPr>
          <a:xfrm>
            <a:off x="5673600" y="41162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由于液体对容器底部产生压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5"/>
          <p:cNvSpPr/>
          <p:nvPr/>
        </p:nvSpPr>
        <p:spPr>
          <a:xfrm>
            <a:off x="6356520" y="3314880"/>
            <a:ext cx="1617480" cy="81900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6"/>
          <p:cNvSpPr/>
          <p:nvPr/>
        </p:nvSpPr>
        <p:spPr>
          <a:xfrm>
            <a:off x="2063520" y="180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3"/>
          <p:cNvSpPr/>
          <p:nvPr/>
        </p:nvSpPr>
        <p:spPr>
          <a:xfrm>
            <a:off x="247680" y="293760"/>
            <a:ext cx="12114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例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341280" y="977760"/>
            <a:ext cx="85629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文文同学在做托里拆利实验时，准确测得水银柱的高度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50 mm 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此时的大气压值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选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高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低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等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标准大气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水银密度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3.6×1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g/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.8N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"/>
          <p:cNvSpPr/>
          <p:nvPr/>
        </p:nvSpPr>
        <p:spPr>
          <a:xfrm>
            <a:off x="5378400" y="147636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.9996×1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"/>
          <p:cNvSpPr/>
          <p:nvPr/>
        </p:nvSpPr>
        <p:spPr>
          <a:xfrm>
            <a:off x="569160" y="1914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低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"/>
          <p:cNvSpPr/>
          <p:nvPr/>
        </p:nvSpPr>
        <p:spPr>
          <a:xfrm>
            <a:off x="193680" y="2930400"/>
            <a:ext cx="875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析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13.6×1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g/m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9.8N/kg×0.7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0.9996×1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标准大气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1.01×1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a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故所求压强低于标准大气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4"/>
          <p:cNvSpPr/>
          <p:nvPr/>
        </p:nvSpPr>
        <p:spPr>
          <a:xfrm>
            <a:off x="2013120" y="399960"/>
            <a:ext cx="46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流体压强与流速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298440" y="366840"/>
            <a:ext cx="1727280" cy="5767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知识点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1074600" y="1754280"/>
            <a:ext cx="6994800" cy="605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流体在流速大的地方压强较小，在流速小的地方压强较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074600" y="3129120"/>
            <a:ext cx="6994800" cy="605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机翼上下表面的压强差是产生升力的原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7"/>
          <p:cNvSpPr/>
          <p:nvPr/>
        </p:nvSpPr>
        <p:spPr>
          <a:xfrm>
            <a:off x="384120" y="136692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2054160" y="1336680"/>
            <a:ext cx="6588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知道压力和压强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能用压强公式进行简单地计算，知道增大和减小压强的方法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了解液体压强，大气压强的测量和计算方法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理解流体的压强与流速的关系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13"/>
          <p:cNvGrpSpPr/>
          <p:nvPr/>
        </p:nvGrpSpPr>
        <p:grpSpPr>
          <a:xfrm>
            <a:off x="2252880" y="74520"/>
            <a:ext cx="1757160" cy="520560"/>
            <a:chOff x="2252880" y="74520"/>
            <a:chExt cx="1757160" cy="520560"/>
          </a:xfrm>
        </p:grpSpPr>
        <p:grpSp>
          <p:nvGrpSpPr>
            <p:cNvPr id="47" name="组合 1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8" name="TextBox 15"/>
            <p:cNvSpPr/>
            <p:nvPr/>
          </p:nvSpPr>
          <p:spPr>
            <a:xfrm>
              <a:off x="2252880" y="74520"/>
              <a:ext cx="1757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标要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3"/>
          <p:cNvSpPr/>
          <p:nvPr/>
        </p:nvSpPr>
        <p:spPr>
          <a:xfrm>
            <a:off x="247680" y="324000"/>
            <a:ext cx="12114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例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649440" y="917640"/>
            <a:ext cx="784512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所示，小汽车受到的重力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它在平直的高速公路上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0km/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速度行驶时，受到地面的支持力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考虑周围空气对它的影响，则下列关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小关系正确的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. G=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 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无法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2" descr="wlja34"/>
          <p:cNvPicPr/>
          <p:nvPr/>
        </p:nvPicPr>
        <p:blipFill>
          <a:blip r:embed="rId1"/>
          <a:stretch/>
        </p:blipFill>
        <p:spPr>
          <a:xfrm>
            <a:off x="6350040" y="2776680"/>
            <a:ext cx="2185920" cy="101412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4"/>
          <p:cNvSpPr/>
          <p:nvPr/>
        </p:nvSpPr>
        <p:spPr>
          <a:xfrm>
            <a:off x="5985720" y="2373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6"/>
          <p:cNvSpPr/>
          <p:nvPr/>
        </p:nvSpPr>
        <p:spPr>
          <a:xfrm>
            <a:off x="3565440" y="3895560"/>
            <a:ext cx="509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汽车上表面的空气流速大，压强较小；通过汽车下表面的空气流速小，压强大所以汽车受到一个向上的升力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3"/>
          <p:cNvSpPr/>
          <p:nvPr/>
        </p:nvSpPr>
        <p:spPr>
          <a:xfrm>
            <a:off x="247680" y="365040"/>
            <a:ext cx="144288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例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"/>
          <p:cNvSpPr/>
          <p:nvPr/>
        </p:nvSpPr>
        <p:spPr>
          <a:xfrm>
            <a:off x="523800" y="949320"/>
            <a:ext cx="7926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如图所示的装水烧杯和两根吸管可以制作一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口吹喷雾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2" descr="wx32"/>
          <p:cNvPicPr/>
          <p:nvPr/>
        </p:nvPicPr>
        <p:blipFill>
          <a:blip r:embed="rId1"/>
          <a:stretch/>
        </p:blipFill>
        <p:spPr>
          <a:xfrm>
            <a:off x="6319800" y="1673280"/>
            <a:ext cx="2392560" cy="124776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4"/>
          <p:cNvSpPr/>
          <p:nvPr/>
        </p:nvSpPr>
        <p:spPr>
          <a:xfrm>
            <a:off x="523800" y="1916280"/>
            <a:ext cx="569448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请你将两根吸管画在装水烧杯的恰当位置，完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口吹喷雾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示意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口吹喷雾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包含的物理知识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选填一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5"/>
          <p:cNvSpPr/>
          <p:nvPr/>
        </p:nvSpPr>
        <p:spPr>
          <a:xfrm>
            <a:off x="2817720" y="3794040"/>
            <a:ext cx="31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压强与流速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6"/>
          <p:cNvSpPr/>
          <p:nvPr/>
        </p:nvSpPr>
        <p:spPr>
          <a:xfrm>
            <a:off x="2514600" y="2876400"/>
            <a:ext cx="17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图所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7" descr="wx33"/>
          <p:cNvPicPr/>
          <p:nvPr/>
        </p:nvPicPr>
        <p:blipFill>
          <a:blip r:embed="rId2"/>
          <a:stretch/>
        </p:blipFill>
        <p:spPr>
          <a:xfrm>
            <a:off x="6480000" y="3160800"/>
            <a:ext cx="20718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12"/>
          <p:cNvGrpSpPr/>
          <p:nvPr/>
        </p:nvGrpSpPr>
        <p:grpSpPr>
          <a:xfrm>
            <a:off x="2252880" y="74520"/>
            <a:ext cx="1757160" cy="520560"/>
            <a:chOff x="2252880" y="74520"/>
            <a:chExt cx="1757160" cy="520560"/>
          </a:xfrm>
        </p:grpSpPr>
        <p:grpSp>
          <p:nvGrpSpPr>
            <p:cNvPr id="140" name="组合 1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41" name="TextBox 3"/>
            <p:cNvSpPr/>
            <p:nvPr/>
          </p:nvSpPr>
          <p:spPr>
            <a:xfrm>
              <a:off x="2252880" y="74520"/>
              <a:ext cx="1757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教学板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图片 1" descr="本章复习2"/>
          <p:cNvPicPr/>
          <p:nvPr/>
        </p:nvPicPr>
        <p:blipFill>
          <a:blip r:embed="rId1"/>
          <a:stretch/>
        </p:blipFill>
        <p:spPr>
          <a:xfrm>
            <a:off x="1920960" y="673200"/>
            <a:ext cx="4225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12"/>
          <p:cNvGrpSpPr/>
          <p:nvPr/>
        </p:nvGrpSpPr>
        <p:grpSpPr>
          <a:xfrm>
            <a:off x="2252880" y="74520"/>
            <a:ext cx="1757160" cy="520560"/>
            <a:chOff x="2252880" y="74520"/>
            <a:chExt cx="1757160" cy="520560"/>
          </a:xfrm>
        </p:grpSpPr>
        <p:grpSp>
          <p:nvGrpSpPr>
            <p:cNvPr id="144" name="组合 1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45" name="TextBox 3"/>
            <p:cNvSpPr/>
            <p:nvPr/>
          </p:nvSpPr>
          <p:spPr>
            <a:xfrm>
              <a:off x="2252880" y="74520"/>
              <a:ext cx="1757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布置作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2"/>
          <p:cNvSpPr/>
          <p:nvPr/>
        </p:nvSpPr>
        <p:spPr>
          <a:xfrm>
            <a:off x="1959120" y="1409760"/>
            <a:ext cx="597204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从课后习题中选取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练习册本课时的习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组合 5"/>
          <p:cNvGrpSpPr/>
          <p:nvPr/>
        </p:nvGrpSpPr>
        <p:grpSpPr>
          <a:xfrm>
            <a:off x="730080" y="1344240"/>
            <a:ext cx="7752240" cy="3383280"/>
            <a:chOff x="730080" y="1344240"/>
            <a:chExt cx="7752240" cy="3383280"/>
          </a:xfrm>
        </p:grpSpPr>
        <p:grpSp>
          <p:nvGrpSpPr>
            <p:cNvPr id="50" name="组合 4"/>
            <p:cNvGrpSpPr/>
            <p:nvPr/>
          </p:nvGrpSpPr>
          <p:grpSpPr>
            <a:xfrm>
              <a:off x="730080" y="1344240"/>
              <a:ext cx="7752240" cy="3297240"/>
              <a:chOff x="730080" y="1344240"/>
              <a:chExt cx="7752240" cy="3297240"/>
            </a:xfrm>
          </p:grpSpPr>
          <p:sp>
            <p:nvSpPr>
              <p:cNvPr id="51" name="圆角矩形 2"/>
              <p:cNvSpPr/>
              <p:nvPr/>
            </p:nvSpPr>
            <p:spPr>
              <a:xfrm>
                <a:off x="730080" y="1516320"/>
                <a:ext cx="7590600" cy="3125160"/>
              </a:xfrm>
              <a:prstGeom prst="roundRect">
                <a:avLst>
                  <a:gd name="adj" fmla="val 16667"/>
                </a:avLst>
              </a:prstGeom>
              <a:solidFill>
                <a:srgbClr val="5b9b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回形针"/>
              <p:cNvSpPr/>
              <p:nvPr/>
            </p:nvSpPr>
            <p:spPr>
              <a:xfrm rot="1500000">
                <a:off x="7989840" y="1391760"/>
                <a:ext cx="371520" cy="655200"/>
              </a:xfrm>
              <a:custGeom>
                <a:avLst/>
                <a:gdLst/>
                <a:ahLst/>
                <a:rect l="l" t="t" r="r" b="b"/>
                <a:pathLst>
                  <a:path w="310" h="634">
                    <a:moveTo>
                      <a:pt x="280" y="73"/>
                    </a:moveTo>
                    <a:lnTo>
                      <a:pt x="280" y="73"/>
                    </a:lnTo>
                    <a:cubicBezTo>
                      <a:pt x="280" y="471"/>
                      <a:pt x="280" y="471"/>
                      <a:pt x="280" y="471"/>
                    </a:cubicBezTo>
                    <a:cubicBezTo>
                      <a:pt x="280" y="530"/>
                      <a:pt x="221" y="589"/>
                      <a:pt x="162" y="589"/>
                    </a:cubicBezTo>
                    <a:cubicBezTo>
                      <a:pt x="89" y="589"/>
                      <a:pt x="45" y="530"/>
                      <a:pt x="45" y="471"/>
                    </a:cubicBezTo>
                    <a:cubicBezTo>
                      <a:pt x="45" y="118"/>
                      <a:pt x="45" y="118"/>
                      <a:pt x="45" y="118"/>
                    </a:cubicBezTo>
                    <a:cubicBezTo>
                      <a:pt x="45" y="73"/>
                      <a:pt x="74" y="44"/>
                      <a:pt x="118" y="44"/>
                    </a:cubicBezTo>
                    <a:cubicBezTo>
                      <a:pt x="162" y="44"/>
                      <a:pt x="192" y="73"/>
                      <a:pt x="192" y="118"/>
                    </a:cubicBezTo>
                    <a:cubicBezTo>
                      <a:pt x="192" y="471"/>
                      <a:pt x="192" y="471"/>
                      <a:pt x="192" y="471"/>
                    </a:cubicBezTo>
                    <a:cubicBezTo>
                      <a:pt x="192" y="486"/>
                      <a:pt x="177" y="515"/>
                      <a:pt x="162" y="515"/>
                    </a:cubicBezTo>
                    <a:cubicBezTo>
                      <a:pt x="133" y="515"/>
                      <a:pt x="118" y="486"/>
                      <a:pt x="118" y="471"/>
                    </a:cubicBezTo>
                    <a:cubicBezTo>
                      <a:pt x="118" y="162"/>
                      <a:pt x="118" y="162"/>
                      <a:pt x="118" y="162"/>
                    </a:cubicBezTo>
                    <a:cubicBezTo>
                      <a:pt x="74" y="162"/>
                      <a:pt x="74" y="162"/>
                      <a:pt x="74" y="162"/>
                    </a:cubicBezTo>
                    <a:cubicBezTo>
                      <a:pt x="74" y="471"/>
                      <a:pt x="74" y="471"/>
                      <a:pt x="74" y="471"/>
                    </a:cubicBezTo>
                    <a:cubicBezTo>
                      <a:pt x="74" y="515"/>
                      <a:pt x="118" y="545"/>
                      <a:pt x="162" y="545"/>
                    </a:cubicBezTo>
                    <a:cubicBezTo>
                      <a:pt x="207" y="545"/>
                      <a:pt x="236" y="515"/>
                      <a:pt x="236" y="471"/>
                    </a:cubicBezTo>
                    <a:cubicBezTo>
                      <a:pt x="236" y="118"/>
                      <a:pt x="236" y="118"/>
                      <a:pt x="236" y="118"/>
                    </a:cubicBezTo>
                    <a:cubicBezTo>
                      <a:pt x="236" y="59"/>
                      <a:pt x="177" y="0"/>
                      <a:pt x="118" y="0"/>
                    </a:cubicBezTo>
                    <a:cubicBezTo>
                      <a:pt x="59" y="0"/>
                      <a:pt x="0" y="59"/>
                      <a:pt x="0" y="118"/>
                    </a:cubicBezTo>
                    <a:cubicBezTo>
                      <a:pt x="0" y="486"/>
                      <a:pt x="0" y="486"/>
                      <a:pt x="0" y="486"/>
                    </a:cubicBezTo>
                    <a:cubicBezTo>
                      <a:pt x="15" y="574"/>
                      <a:pt x="74" y="633"/>
                      <a:pt x="162" y="633"/>
                    </a:cubicBezTo>
                    <a:cubicBezTo>
                      <a:pt x="236" y="633"/>
                      <a:pt x="309" y="574"/>
                      <a:pt x="309" y="486"/>
                    </a:cubicBezTo>
                    <a:cubicBezTo>
                      <a:pt x="309" y="73"/>
                      <a:pt x="309" y="73"/>
                      <a:pt x="309" y="73"/>
                    </a:cubicBezTo>
                    <a:lnTo>
                      <a:pt x="280" y="73"/>
                    </a:lnTo>
                  </a:path>
                </a:pathLst>
              </a:custGeom>
              <a:solidFill>
                <a:srgbClr val="5b9bd5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2040" rIns="122040" tIns="60840" bIns="608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铅笔"/>
            <p:cNvSpPr/>
            <p:nvPr/>
          </p:nvSpPr>
          <p:spPr>
            <a:xfrm>
              <a:off x="7452000" y="3940200"/>
              <a:ext cx="787320" cy="787320"/>
            </a:xfrm>
            <a:custGeom>
              <a:avLst/>
              <a:gdLst/>
              <a:ahLst/>
              <a:rect l="l" t="t" r="r" b="b"/>
              <a:pathLst>
                <a:path w="2913" h="2922">
                  <a:moveTo>
                    <a:pt x="2552" y="903"/>
                  </a:moveTo>
                  <a:cubicBezTo>
                    <a:pt x="2010" y="361"/>
                    <a:pt x="2010" y="361"/>
                    <a:pt x="2010" y="361"/>
                  </a:cubicBezTo>
                  <a:cubicBezTo>
                    <a:pt x="2281" y="89"/>
                    <a:pt x="2281" y="89"/>
                    <a:pt x="2281" y="89"/>
                  </a:cubicBezTo>
                  <a:cubicBezTo>
                    <a:pt x="2371" y="0"/>
                    <a:pt x="2517" y="0"/>
                    <a:pt x="2607" y="89"/>
                  </a:cubicBezTo>
                  <a:cubicBezTo>
                    <a:pt x="2823" y="306"/>
                    <a:pt x="2823" y="306"/>
                    <a:pt x="2823" y="306"/>
                  </a:cubicBezTo>
                  <a:cubicBezTo>
                    <a:pt x="2913" y="396"/>
                    <a:pt x="2913" y="542"/>
                    <a:pt x="2823" y="632"/>
                  </a:cubicBezTo>
                  <a:lnTo>
                    <a:pt x="2552" y="903"/>
                  </a:lnTo>
                  <a:close/>
                  <a:moveTo>
                    <a:pt x="978" y="2477"/>
                  </a:moveTo>
                  <a:cubicBezTo>
                    <a:pt x="436" y="1935"/>
                    <a:pt x="436" y="1935"/>
                    <a:pt x="436" y="1935"/>
                  </a:cubicBezTo>
                  <a:cubicBezTo>
                    <a:pt x="1909" y="473"/>
                    <a:pt x="1909" y="473"/>
                    <a:pt x="1909" y="473"/>
                  </a:cubicBezTo>
                  <a:cubicBezTo>
                    <a:pt x="2451" y="1015"/>
                    <a:pt x="2451" y="1015"/>
                    <a:pt x="2451" y="1015"/>
                  </a:cubicBezTo>
                  <a:lnTo>
                    <a:pt x="978" y="2477"/>
                  </a:lnTo>
                  <a:close/>
                  <a:moveTo>
                    <a:pt x="0" y="2922"/>
                  </a:moveTo>
                  <a:cubicBezTo>
                    <a:pt x="330" y="2041"/>
                    <a:pt x="330" y="2041"/>
                    <a:pt x="330" y="2041"/>
                  </a:cubicBezTo>
                  <a:cubicBezTo>
                    <a:pt x="867" y="2578"/>
                    <a:pt x="867" y="2578"/>
                    <a:pt x="867" y="2578"/>
                  </a:cubicBezTo>
                  <a:lnTo>
                    <a:pt x="0" y="2922"/>
                  </a:ln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9"/>
          <p:cNvGrpSpPr/>
          <p:nvPr/>
        </p:nvGrpSpPr>
        <p:grpSpPr>
          <a:xfrm>
            <a:off x="2252880" y="74520"/>
            <a:ext cx="1757160" cy="520560"/>
            <a:chOff x="2252880" y="74520"/>
            <a:chExt cx="1757160" cy="520560"/>
          </a:xfrm>
        </p:grpSpPr>
        <p:grpSp>
          <p:nvGrpSpPr>
            <p:cNvPr id="55" name="组合 1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56" name="TextBox 11"/>
            <p:cNvSpPr/>
            <p:nvPr/>
          </p:nvSpPr>
          <p:spPr>
            <a:xfrm>
              <a:off x="2252880" y="74520"/>
              <a:ext cx="1757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进行新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4"/>
          <p:cNvSpPr/>
          <p:nvPr/>
        </p:nvSpPr>
        <p:spPr>
          <a:xfrm>
            <a:off x="2521080" y="81756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固体压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54200" y="797040"/>
            <a:ext cx="1726920" cy="5767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知识点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"/>
          <p:cNvSpPr/>
          <p:nvPr/>
        </p:nvSpPr>
        <p:spPr>
          <a:xfrm>
            <a:off x="824040" y="1668600"/>
            <a:ext cx="757224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物体所受压力的大小与受力面积之比叫压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数值上等于物体单位面积上所受的压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Pa=1 N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ject 8" descr=""/>
          <p:cNvPicPr/>
          <p:nvPr/>
        </p:nvPicPr>
        <p:blipFill>
          <a:blip r:embed="rId1"/>
          <a:stretch/>
        </p:blipFill>
        <p:spPr>
          <a:xfrm>
            <a:off x="3768840" y="2332080"/>
            <a:ext cx="13716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2"/>
          <p:cNvSpPr/>
          <p:nvPr/>
        </p:nvSpPr>
        <p:spPr>
          <a:xfrm>
            <a:off x="695160" y="217440"/>
            <a:ext cx="7964640" cy="47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大压强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受力面积一定时，增大压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在压力一定时，减小受力面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在增大压力的同时减小受力面积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减小压强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受力面积一定时，减小压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压力一定时，增大受力面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在减小压力的同时增大受力面积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1"/>
          <p:cNvSpPr/>
          <p:nvPr/>
        </p:nvSpPr>
        <p:spPr>
          <a:xfrm>
            <a:off x="865080" y="925560"/>
            <a:ext cx="75106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0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水平力将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0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边长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正方体物块压在竖直的墙上，则墙壁受到的压力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压强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" descr="wlja30"/>
          <p:cNvPicPr/>
          <p:nvPr/>
        </p:nvPicPr>
        <p:blipFill>
          <a:blip r:embed="rId1"/>
          <a:stretch/>
        </p:blipFill>
        <p:spPr>
          <a:xfrm>
            <a:off x="6622920" y="2241720"/>
            <a:ext cx="1625760" cy="213804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5"/>
          <p:cNvSpPr/>
          <p:nvPr/>
        </p:nvSpPr>
        <p:spPr>
          <a:xfrm>
            <a:off x="1050840" y="20034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3441600" y="2003400"/>
            <a:ext cx="9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7"/>
          <p:cNvSpPr/>
          <p:nvPr/>
        </p:nvSpPr>
        <p:spPr>
          <a:xfrm>
            <a:off x="865080" y="2664000"/>
            <a:ext cx="556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析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块静止在竖直的墙上，对墙壁的压力是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50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受力面积是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10cm×10cm=100cm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0.01m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墙壁受到的压强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F/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50N/0.01m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5000P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9"/>
          <p:cNvSpPr/>
          <p:nvPr/>
        </p:nvSpPr>
        <p:spPr>
          <a:xfrm>
            <a:off x="247680" y="344520"/>
            <a:ext cx="12114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例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1"/>
          <p:cNvSpPr/>
          <p:nvPr/>
        </p:nvSpPr>
        <p:spPr>
          <a:xfrm>
            <a:off x="865080" y="1177920"/>
            <a:ext cx="750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体重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00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小明双脚站立在水平冰面上时发现冰面有破裂的危险，他及时卧在冰面上匍匐前进，避免了意外的发生．已知两只脚与冰面的接触总面积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00c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小明双脚站立时对冰面的压强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平卧时能避免意外发生的原因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"/>
          <p:cNvSpPr/>
          <p:nvPr/>
        </p:nvSpPr>
        <p:spPr>
          <a:xfrm>
            <a:off x="3084480" y="329400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.25×1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"/>
          <p:cNvSpPr/>
          <p:nvPr/>
        </p:nvSpPr>
        <p:spPr>
          <a:xfrm>
            <a:off x="3462480" y="3790800"/>
            <a:ext cx="41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增大受力面积，减小压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5"/>
          <p:cNvSpPr/>
          <p:nvPr/>
        </p:nvSpPr>
        <p:spPr>
          <a:xfrm>
            <a:off x="247680" y="506520"/>
            <a:ext cx="12114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例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"/>
          <p:cNvSpPr/>
          <p:nvPr/>
        </p:nvSpPr>
        <p:spPr>
          <a:xfrm>
            <a:off x="493560" y="996840"/>
            <a:ext cx="829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南极洲是世界上最为寒冷的地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20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日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日，我国完成了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次南极科学考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面是科考队员在南极的一些做法：如图所示是我国科考队员在薄冰上卸载卡特比勒车时的情景，车质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5×1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履带与地面接触总面积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5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N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2" descr="CK19"/>
          <p:cNvPicPr/>
          <p:nvPr/>
        </p:nvPicPr>
        <p:blipFill>
          <a:blip r:embed="rId1"/>
          <a:stretch/>
        </p:blipFill>
        <p:spPr>
          <a:xfrm>
            <a:off x="6432480" y="3241800"/>
            <a:ext cx="1998720" cy="166032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4"/>
          <p:cNvSpPr/>
          <p:nvPr/>
        </p:nvSpPr>
        <p:spPr>
          <a:xfrm>
            <a:off x="247680" y="314280"/>
            <a:ext cx="12114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例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4"/>
          <p:cNvSpPr/>
          <p:nvPr/>
        </p:nvSpPr>
        <p:spPr>
          <a:xfrm>
            <a:off x="822240" y="1060560"/>
            <a:ext cx="7307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为移动此车，在冰面上铺木板是为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此车对木板的压强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1555920" y="1595520"/>
            <a:ext cx="42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增大受力面积以减小压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"/>
          <p:cNvSpPr/>
          <p:nvPr/>
        </p:nvSpPr>
        <p:spPr>
          <a:xfrm>
            <a:off x="1141560" y="2698920"/>
            <a:ext cx="72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=mg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.5×1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kg×10N/kg=2.5×1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Object 8" descr=""/>
          <p:cNvPicPr/>
          <p:nvPr/>
        </p:nvPicPr>
        <p:blipFill>
          <a:blip r:embed="rId1"/>
          <a:stretch/>
        </p:blipFill>
        <p:spPr>
          <a:xfrm>
            <a:off x="1841400" y="3276720"/>
            <a:ext cx="566604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4"/>
          <p:cNvSpPr/>
          <p:nvPr/>
        </p:nvSpPr>
        <p:spPr>
          <a:xfrm>
            <a:off x="2013120" y="399960"/>
            <a:ext cx="23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液体压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298440" y="366840"/>
            <a:ext cx="1727280" cy="5767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知识点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4"/>
          <p:cNvSpPr/>
          <p:nvPr/>
        </p:nvSpPr>
        <p:spPr>
          <a:xfrm>
            <a:off x="682560" y="1065240"/>
            <a:ext cx="6388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液面下深度为</a:t>
            </a:r>
            <a:r>
              <a:rPr b="1" i="1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处液体的压强为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8"/>
          <p:cNvSpPr/>
          <p:nvPr/>
        </p:nvSpPr>
        <p:spPr>
          <a:xfrm>
            <a:off x="682560" y="2254320"/>
            <a:ext cx="724536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液体内部朝各个方向都有压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同一深度，各个方向的压强均相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随着深度增加，液体的压强增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液体的压强与液体的密度有关，在深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度相同时，液体的密度越大，压强越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0"/>
          <p:cNvSpPr/>
          <p:nvPr/>
        </p:nvSpPr>
        <p:spPr>
          <a:xfrm>
            <a:off x="1252440" y="1757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液体压强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3:22:00Z</dcterms:created>
  <dc:creator/>
  <dc:description/>
  <dc:language>en-US</dc:language>
  <cp:lastModifiedBy>Administrator</cp:lastModifiedBy>
  <dcterms:modified xsi:type="dcterms:W3CDTF">2019-01-09T08:14:38Z</dcterms:modified>
  <cp:revision>749</cp:revision>
  <dc:subject/>
  <dc:title>本章复习和总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